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951663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F91E-69ED-49EA-93AC-BAC96DC9D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7159-72E6-459E-BF14-F4BAF53C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FBA4-00CB-464B-8E94-9B1B05C2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0F86-5EAE-4B31-B1F6-3709C01DD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F566-8271-4D0B-9F56-632DD9990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465E-D382-465C-8289-69D4F563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16D7-7734-473B-898C-0B4541EC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F87A-E0B5-4FA1-A343-8FDE996B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6E0E-088B-4E59-B204-6155B557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3534-F1DE-4E8B-826D-A030D0BF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F0A6-CBA3-474B-A425-13FEEC05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8EB1-EC14-4CBF-B540-FBB1A69D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65A0-C084-46A2-9781-9C930F89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9468-831D-4E7F-A109-18A959A8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D562-177C-4C03-81EE-1B835FBE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08B3-DDD9-4B8B-974F-C2586492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EB7A-B252-41D4-907F-EBBA5EE58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66E8-9369-4F51-980A-ED2B9222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9437-E611-4193-A94A-8098E07A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90B6-C739-4DC7-A800-A942D121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F7D5-176A-4284-A5F6-E35D829E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A023-4BBF-4662-B616-AD2CB57E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A7E8-8062-417B-9E8D-1A95A29D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23A2-B438-4D28-AA75-3C44FB29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5C64-7D53-40D5-A845-7B0C0EBC49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52FE-4763-4650-803C-47ADB4F770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pology Is Not Enough (Sometim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tr005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1946520" cy="3490920"/>
          </a:xfrm>
          <a:prstGeom prst="rect">
            <a:avLst/>
          </a:prstGeom>
          <a:ln w="0">
            <a:noFill/>
          </a:ln>
        </p:spPr>
      </p:pic>
      <p:pic>
        <p:nvPicPr>
          <p:cNvPr id="100" name="tr014" descr=""/>
          <p:cNvPicPr/>
          <p:nvPr/>
        </p:nvPicPr>
        <p:blipFill>
          <a:blip r:embed="rId2"/>
          <a:stretch/>
        </p:blipFill>
        <p:spPr>
          <a:xfrm>
            <a:off x="3276720" y="2057400"/>
            <a:ext cx="1844640" cy="3645000"/>
          </a:xfrm>
          <a:prstGeom prst="rect">
            <a:avLst/>
          </a:prstGeom>
          <a:ln w="0">
            <a:noFill/>
          </a:ln>
        </p:spPr>
      </p:pic>
      <p:pic>
        <p:nvPicPr>
          <p:cNvPr id="101" name="tr082" descr=""/>
          <p:cNvPicPr/>
          <p:nvPr/>
        </p:nvPicPr>
        <p:blipFill>
          <a:blip r:embed="rId3"/>
          <a:stretch/>
        </p:blipFill>
        <p:spPr>
          <a:xfrm>
            <a:off x="5410080" y="1839960"/>
            <a:ext cx="3210120" cy="1969920"/>
          </a:xfrm>
          <a:prstGeom prst="rect">
            <a:avLst/>
          </a:prstGeom>
          <a:ln w="0">
            <a:noFill/>
          </a:ln>
        </p:spPr>
      </p:pic>
      <p:pic>
        <p:nvPicPr>
          <p:cNvPr id="102" name="tr091" descr=""/>
          <p:cNvPicPr/>
          <p:nvPr/>
        </p:nvPicPr>
        <p:blipFill>
          <a:blip r:embed="rId4"/>
          <a:stretch/>
        </p:blipFill>
        <p:spPr>
          <a:xfrm>
            <a:off x="2057400" y="2057400"/>
            <a:ext cx="1515960" cy="36133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4760" y="4190760"/>
            <a:ext cx="380988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 chemical compounds with 30 ato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= 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patterns of 14 edges f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5715000"/>
            <a:ext cx="449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3-(3,5-dibromo-4-hydroxyphenyl)-2-(4-iodophenyl)acrylic ac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17220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4-phenyl-1,3-butadienyl)benze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23880" y="3911760"/>
            <a:ext cx="243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ethyl 3-phenanthrenecarboxyl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82080" y="5969160"/>
            <a:ext cx="247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1-methoxy-4-(2-phenylvinyl)benze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60CD-6ED0-4FE5-BFF6-8595D57A14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16:05:33Z</dcterms:created>
  <dc:creator>Michihiro Kuramochi</dc:creator>
  <dc:description/>
  <dc:language>en-US</dc:language>
  <cp:lastModifiedBy>kuram</cp:lastModifiedBy>
  <dcterms:modified xsi:type="dcterms:W3CDTF">2002-01-17T00:13:20Z</dcterms:modified>
  <cp:revision>72</cp:revision>
  <dc:subject/>
  <dc:title>Frequent Substructure Discovery</dc:title>
</cp:coreProperties>
</file>